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money.wav" ContentType="audio/x-wav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1656-FC25-45C0-BE00-685DEBC9F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C575-9E9B-4E78-A822-79D53D59B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0B3F-AF3E-45C2-BDBB-B918348C3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EB2E-3353-4A40-B4B7-0F98EC299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4AA4-1FAD-4385-8BE6-9493CA5F7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EDA9-31F3-4BAE-A364-D69D5BDF3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1876-269A-4C3F-BAF1-679702A9F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7096-B811-43C9-B133-7EEB7EDD4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5072-3CE1-4B8D-BDB3-830C618FC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1774-D879-4CF4-A11E-144FD6E91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D552-A548-44F8-8342-F085B809E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8269-F70C-4D2B-AF7F-4D6513CD6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E35F-EAB9-4A35-B7AD-F47CC6726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2D6B-640E-47D8-8E7D-8225A7049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8A83-7D6A-4F84-AD30-AFC458362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E23-1B85-4967-ABD6-4C0666A5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8C6B-CE49-4C55-9EB7-E10BC221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363F-DC61-4A37-8918-1CDE7A05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BE7-7BDC-4C90-BC4C-5DBD9552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3B4-CE74-4043-86F7-ABBE0A09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04A1-2BC0-4FAA-9FFE-FDC4139E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CFC-C09C-416B-A4BD-4FD4CADA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1BF-8CAD-4005-9F44-91097EC9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C75-2340-47E9-9AB6-182DC330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530A-3B99-4FDA-A433-13998BF9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139E-8F1C-49F1-A108-1D47DC93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18F-8D5C-4166-8A23-3CF72E35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6697-D800-4F55-AECD-DEBAF8A8B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mone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696080" cy="28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NAILED"/>
              </a:rPr>
              <a:t>How to Nail an Interview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3983890000[1]"/>
          <p:cNvPicPr/>
          <p:nvPr/>
        </p:nvPicPr>
        <p:blipFill>
          <a:blip r:embed="rId1"/>
          <a:stretch/>
        </p:blipFill>
        <p:spPr>
          <a:xfrm>
            <a:off x="2971800" y="3505320"/>
            <a:ext cx="335268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one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38080" y="1447920"/>
            <a:ext cx="7239240" cy="44193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78487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ligraph421 BT"/>
              </a:rPr>
              <a:t>What to</a:t>
            </a:r>
            <a:br>
              <a:rPr sz="10000"/>
            </a:br>
            <a:r>
              <a:rPr b="0" lang="en-US" sz="10000" spc="-1" strike="noStrike">
                <a:solidFill>
                  <a:srgbClr val="000000"/>
                </a:solidFill>
                <a:latin typeface="Calligraph421 BT"/>
              </a:rPr>
              <a:t> Sa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ligraph421 BT"/>
              </a:rPr>
              <a:t>You</a:t>
            </a:r>
            <a:r>
              <a:rPr b="0" lang="en-US" sz="4400" spc="-1" strike="noStrike">
                <a:solidFill>
                  <a:srgbClr val="000000"/>
                </a:solidFill>
                <a:latin typeface="Calligraph421 BT"/>
              </a:rPr>
              <a:t> are Interviewing </a:t>
            </a:r>
            <a:r>
              <a:rPr b="0" i="1" lang="en-US" sz="4400" spc="-1" strike="noStrike">
                <a:solidFill>
                  <a:srgbClr val="000000"/>
                </a:solidFill>
                <a:latin typeface="Calligraph421 BT"/>
              </a:rPr>
              <a:t>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Questions about the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ome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nt to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e afraid to ask questions about the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ligraph421 BT"/>
              </a:rPr>
              <a:t>Know the Comp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research in advance to find out about the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he interviewer know that you know something abou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ligraph421 BT"/>
              </a:rPr>
              <a:t>Answer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not always what you say, b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say it. Be profession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beforehand answering common questions in intervi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ligraph421 BT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ll me about yoursel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you want to leave your current job? (Why did you leave your last job?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your strengths?  What are your weakness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adjectives would you use to describe yourself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o you know about our company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you want to work for u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should I hire you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past accomplishments gave you satisfactio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makes you want to work har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type of work environment do you like bes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you handle pressure and stres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how you overcame a major obstac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do you see yourself five (ten or fifteen) years from now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qualifies you for this job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1066680" y="1523880"/>
            <a:ext cx="7010640" cy="40388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ligraph421 BT"/>
              </a:rPr>
              <a:t>The First </a:t>
            </a:r>
            <a:br>
              <a:rPr sz="10000"/>
            </a:br>
            <a:r>
              <a:rPr b="0" lang="en-US" sz="10000" spc="-1" strike="noStrike">
                <a:solidFill>
                  <a:srgbClr val="000000"/>
                </a:solidFill>
                <a:latin typeface="Calligraph421 BT"/>
              </a:rPr>
              <a:t>Impressio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ligraph421 BT"/>
              </a:rPr>
              <a:t>What to W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-cowboy%20before%20the%20formal%20dinner"/>
          <p:cNvPicPr/>
          <p:nvPr/>
        </p:nvPicPr>
        <p:blipFill>
          <a:blip r:embed="rId1"/>
          <a:srcRect l="29429" t="12233" r="27142" b="5365"/>
          <a:stretch/>
        </p:blipFill>
        <p:spPr>
          <a:xfrm>
            <a:off x="3733920" y="1143000"/>
            <a:ext cx="217152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ormal-wear-career-apparel"/>
          <p:cNvPicPr/>
          <p:nvPr/>
        </p:nvPicPr>
        <p:blipFill>
          <a:blip r:embed="rId2"/>
          <a:stretch/>
        </p:blipFill>
        <p:spPr>
          <a:xfrm>
            <a:off x="2895480" y="1600200"/>
            <a:ext cx="4648320" cy="4624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t97qsx7p"/>
          <p:cNvPicPr/>
          <p:nvPr/>
        </p:nvPicPr>
        <p:blipFill>
          <a:blip r:embed="rId3">
            <a:lum bright="18000"/>
          </a:blip>
          <a:srcRect l="21868" t="0" r="24707" b="0"/>
          <a:stretch/>
        </p:blipFill>
        <p:spPr>
          <a:xfrm>
            <a:off x="3657600" y="1295280"/>
            <a:ext cx="2041560" cy="510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tuxedo0003_large"/>
          <p:cNvPicPr/>
          <p:nvPr/>
        </p:nvPicPr>
        <p:blipFill>
          <a:blip r:embed="rId4"/>
          <a:stretch/>
        </p:blipFill>
        <p:spPr>
          <a:xfrm>
            <a:off x="3505320" y="2057400"/>
            <a:ext cx="2295360" cy="4438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8"/>
          <p:cNvSpPr/>
          <p:nvPr/>
        </p:nvSpPr>
        <p:spPr>
          <a:xfrm>
            <a:off x="304920" y="1981080"/>
            <a:ext cx="2057400" cy="28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classic%20flower%20blouse"/>
          <p:cNvPicPr/>
          <p:nvPr/>
        </p:nvPicPr>
        <p:blipFill>
          <a:blip r:embed="rId5"/>
          <a:stretch/>
        </p:blipFill>
        <p:spPr>
          <a:xfrm>
            <a:off x="3276720" y="1143000"/>
            <a:ext cx="2979720" cy="541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imagefixed170pxwx215pxh,53936,en"/>
          <p:cNvPicPr/>
          <p:nvPr/>
        </p:nvPicPr>
        <p:blipFill>
          <a:blip r:embed="rId6"/>
          <a:stretch/>
        </p:blipFill>
        <p:spPr>
          <a:xfrm>
            <a:off x="3048120" y="1523880"/>
            <a:ext cx="3674880" cy="4648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suit"/>
          <p:cNvPicPr/>
          <p:nvPr/>
        </p:nvPicPr>
        <p:blipFill>
          <a:blip r:embed="rId7"/>
          <a:stretch/>
        </p:blipFill>
        <p:spPr>
          <a:xfrm>
            <a:off x="2895480" y="1143000"/>
            <a:ext cx="359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rt &amp; 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basic school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mod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Jean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ligraph421 BT"/>
              </a:rPr>
              <a:t>What to W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ligraph421 BT"/>
              </a:rPr>
              <a:t>Hyg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9950"/>
          <p:cNvPicPr/>
          <p:nvPr/>
        </p:nvPicPr>
        <p:blipFill>
          <a:blip r:embed="rId1"/>
          <a:stretch/>
        </p:blipFill>
        <p:spPr>
          <a:xfrm>
            <a:off x="2971800" y="1447920"/>
            <a:ext cx="4000680" cy="42955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304920" y="1981080"/>
            <a:ext cx="2057400" cy="28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crazy%20hair"/>
          <p:cNvPicPr/>
          <p:nvPr/>
        </p:nvPicPr>
        <p:blipFill>
          <a:blip r:embed="rId2"/>
          <a:stretch/>
        </p:blipFill>
        <p:spPr>
          <a:xfrm>
            <a:off x="2666880" y="1523880"/>
            <a:ext cx="4896000" cy="4562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16%20stinky"/>
          <p:cNvPicPr/>
          <p:nvPr/>
        </p:nvPicPr>
        <p:blipFill>
          <a:blip r:embed="rId3"/>
          <a:stretch/>
        </p:blipFill>
        <p:spPr>
          <a:xfrm>
            <a:off x="2209680" y="1523880"/>
            <a:ext cx="5915160" cy="443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hairstyle"/>
          <p:cNvPicPr/>
          <p:nvPr/>
        </p:nvPicPr>
        <p:blipFill>
          <a:blip r:embed="rId4"/>
          <a:stretch/>
        </p:blipFill>
        <p:spPr>
          <a:xfrm>
            <a:off x="3124080" y="1295280"/>
            <a:ext cx="3579840" cy="5334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b30303320"/>
          <p:cNvPicPr/>
          <p:nvPr/>
        </p:nvPicPr>
        <p:blipFill>
          <a:blip r:embed="rId5"/>
          <a:stretch/>
        </p:blipFill>
        <p:spPr>
          <a:xfrm>
            <a:off x="3124080" y="1447920"/>
            <a:ext cx="3705480" cy="4933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man-1b"/>
          <p:cNvPicPr/>
          <p:nvPr/>
        </p:nvPicPr>
        <p:blipFill>
          <a:blip r:embed="rId6"/>
          <a:stretch/>
        </p:blipFill>
        <p:spPr>
          <a:xfrm>
            <a:off x="3733920" y="1219320"/>
            <a:ext cx="2755800" cy="5410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my%20dirty%20face"/>
          <p:cNvPicPr/>
          <p:nvPr/>
        </p:nvPicPr>
        <p:blipFill>
          <a:blip r:embed="rId7"/>
          <a:stretch/>
        </p:blipFill>
        <p:spPr>
          <a:xfrm>
            <a:off x="2743200" y="1295280"/>
            <a:ext cx="4708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ligraph421 BT"/>
              </a:rPr>
              <a:t>Hyg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 hair neatly combed and done. Nothing too crazy or wi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-up, if worn, should be basic and not gar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smell! Use deodor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any piercing or cover and tattoos that might make you look unprofess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 Prep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ve 10 minutes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r application already filled out if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a resume if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have on you the names and phone numbers of refer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off your cell ph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ring uninvited guests like parents, loved ones, or p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MCj03223650000[1]"/>
          <p:cNvPicPr/>
          <p:nvPr/>
        </p:nvPicPr>
        <p:blipFill>
          <a:blip r:embed="rId1"/>
          <a:stretch/>
        </p:blipFill>
        <p:spPr>
          <a:xfrm>
            <a:off x="5105520" y="1295280"/>
            <a:ext cx="7538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king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yourself and say something like “I’m pleased to meet you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attention to the interviewer’s mood—if they are formal, you should be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avoid 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any swear w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professio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say “like” and “whatev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respectfully and at a good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5:32:17Z</dcterms:created>
  <dc:creator>Megan.Rees</dc:creator>
  <dc:description/>
  <dc:language>en-US</dc:language>
  <cp:lastModifiedBy>Megan Rees</cp:lastModifiedBy>
  <dcterms:modified xsi:type="dcterms:W3CDTF">2012-07-25T21:39:04Z</dcterms:modified>
  <cp:revision>7</cp:revision>
  <dc:subject/>
  <dc:title>How to Nail an Interview</dc:title>
</cp:coreProperties>
</file>